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8B4-226C-4885-8199-94242CB3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7DD-0C7A-4C5B-AAA7-503068E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16B-98EF-44BC-8ED8-AD1D1E7F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342-15BA-47EE-B7AB-113A5F6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BDE-4568-42C6-A75C-A1A2629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B3B-0340-4B68-B266-8DA507E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AEB-5574-48AA-BEDE-A50328FF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951-D4BF-4707-A1C2-9BC7EB2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798-24D4-413E-9C9E-D95B64F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535-60AF-4B0A-860F-2EB3589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3DA-081F-4E7A-9395-8D1CBFD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E49-5613-46D8-B791-08A5270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67F-D396-49AA-A958-61885C371B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5160" y="2209680"/>
            <a:ext cx="69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600280"/>
            <a:ext cx="769608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1480" y="838080"/>
            <a:ext cx="4861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lgebra,  can go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360" y="2427120"/>
            <a:ext cx="515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05520" y="4648320"/>
            <a:ext cx="2819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7150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41Z</dcterms:modified>
  <cp:revision>210</cp:revision>
  <dc:subject/>
  <dc:title>Slide 1</dc:title>
</cp:coreProperties>
</file>